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4BDB-D748-41EE-B265-2F8027A1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148-779C-4344-884B-4EF5E00B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2105-4738-481E-B679-5B855AF4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470-3943-4347-ACCA-8E3286B1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A2F-F5B4-4BF7-9448-BC46859D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FEA-8DE6-4FDD-A396-AA508BF0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ED0D-9562-4A0D-B314-3E2EDAEE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584-AC17-42A6-B0F9-B5C27B37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CA1-B233-45C5-8055-D9C71DBB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9130-A39B-4F70-9BBE-75CD0771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C0D-E789-457D-A4EE-092B643D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FB31-0F0A-4692-9FCB-7A9E0197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4090-9828-43E8-B92F-097837F8E70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790560" y="214200"/>
            <a:ext cx="75628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52560" y="371520"/>
            <a:ext cx="72388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ban KARNAVOS</cp:lastModifiedBy>
  <dcterms:modified xsi:type="dcterms:W3CDTF">2011-09-09T13:11:29Z</dcterms:modified>
  <cp:revision>5</cp:revision>
  <dc:subject/>
  <dc:title>Diapositive 1</dc:title>
</cp:coreProperties>
</file>