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097-035D-440F-A17A-6859D2A7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2CE-1CB7-4DAA-BFAD-5C1F0457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1CF-65FE-4F72-9963-DDC4576C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3D6-406E-4419-A713-96BD50A5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511-5EAB-4B6D-8DB2-DDA99B7C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B54-DD32-4976-8464-4A4B4E7D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E28-7382-4E8C-A581-8042713D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3B6-C9C5-4F40-9D8F-669642D1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729-E697-4642-A41A-97AD5A3A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A3B-7D90-4832-BFF8-E803D82C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E27-E9AC-4657-AB13-61D28D8B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56E-56D7-418E-BA00-2428F58F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629B-3BEC-4A39-BE93-A7E21D1997E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790560" y="214200"/>
            <a:ext cx="7562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52560" y="371520"/>
            <a:ext cx="72388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09T13:11:29Z</dcterms:modified>
  <cp:revision>5</cp:revision>
  <dc:subject/>
  <dc:title>Diapositive 1</dc:title>
</cp:coreProperties>
</file>