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55B-0EC4-49EA-8CB7-E5C1D125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4B8-7CCA-4005-85A6-D9E95B9F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C4E8-32F8-43C4-BE69-AF5C7483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BD8-BFEC-474E-8318-3D09F179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7AE6-9946-4E6C-AF0F-9AA6652B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B72-2FC3-463D-8BB9-2AF6C86B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20A6-A2CF-4A38-8E8D-E1B68B62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790-A77D-467B-B689-EB7DDFEA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7041-5A1F-45BD-B560-97E9469A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688-B81F-4B58-827A-1F1380BF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F92-6B48-42FB-8562-C19098F5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393C-E307-45A5-A3DA-C74AE84E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25FA-95C4-4E45-B438-F23970D3097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790560" y="214200"/>
            <a:ext cx="75628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52560" y="371520"/>
            <a:ext cx="72388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ban KARNAVOS</cp:lastModifiedBy>
  <dcterms:modified xsi:type="dcterms:W3CDTF">2011-09-09T13:11:29Z</dcterms:modified>
  <cp:revision>5</cp:revision>
  <dc:subject/>
  <dc:title>Diapositive 1</dc:title>
</cp:coreProperties>
</file>