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AB4-7816-4EF3-8C8D-619E5247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A23-1E4E-40B1-9695-1B79C96F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678-109F-4D68-883B-4F9B6FB7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84D-AC30-4A49-810A-25935721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DC3-E70C-48E6-9B20-AAB8026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398-6CB5-4558-B3ED-DC331A25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CDE-8986-4CD9-9A94-2E87B1AC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D0D-4FC5-4412-8E83-F410026E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C69-71B8-4F6A-8904-DB208EAE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549-82A2-4B7F-9B06-D08AFF2E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E71-D086-4E9E-B6CA-AD32F9C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90B-0FEC-459E-921D-BEB4BFAE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BACD-A8FD-4AE7-BB9E-BC6B0A97CB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790560" y="214200"/>
            <a:ext cx="75628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2560" y="371520"/>
            <a:ext cx="72388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09T13:11:29Z</dcterms:modified>
  <cp:revision>5</cp:revision>
  <dc:subject/>
  <dc:title>Diapositive 1</dc:title>
</cp:coreProperties>
</file>