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02B8-67FF-4759-BD4B-B33BC9B6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0F6F-E88F-4847-AB62-D3113809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6A09-E811-4D50-AE85-8AA3CB21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56E-4260-497C-8360-702D39FD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3875-D6CE-4420-8BA1-AEA67A3D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4B77-3339-4A6B-9157-DF7CC472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1CE0-809F-46DF-8AF9-6666E9AD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2D28-914D-4A8B-9CD6-9246CE4E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97EB-6236-4D90-8798-4A19722C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6BC6-AC37-4F95-BA07-350EE5F7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0C9A-5E89-439D-A8A3-3D37F2FC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28B3-5A47-4362-97E7-7322FB8F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E68A-554D-458D-98EE-034CF81DDCA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790560" y="214200"/>
            <a:ext cx="75628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52560" y="371520"/>
            <a:ext cx="72388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ban KARNAVOS</cp:lastModifiedBy>
  <dcterms:modified xsi:type="dcterms:W3CDTF">2011-09-09T13:11:29Z</dcterms:modified>
  <cp:revision>5</cp:revision>
  <dc:subject/>
  <dc:title>Diapositive 1</dc:title>
</cp:coreProperties>
</file>