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CE3-7CB6-42D8-967C-B604DAE3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DEF-C8EE-400F-8350-F1DD1F5F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C3C-8CE3-40F1-8F3B-5954856F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C5A-C1DB-49AD-B0F9-B4B34AEE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FFD-24D5-465D-A675-95ED5698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4FF-DDD5-49C9-906F-13F48735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333-328B-420D-BA32-DE5B02A7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BC1-E0B0-47CD-8908-F223B8EC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A66-A279-486F-A114-57D344EF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E11-B21A-406B-BD1B-ECFF4D2F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10F-ED9B-44E1-8A2B-E8DE866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769-75B8-4136-9516-7E568A2D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5D48-1B1A-48C2-9E7E-1EB1C0F7B35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une publication au has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exandre COURTOIS</cp:lastModifiedBy>
  <dcterms:modified xsi:type="dcterms:W3CDTF">2011-09-27T15:27:20Z</dcterms:modified>
  <cp:revision>8</cp:revision>
  <dc:subject/>
  <dc:title>Diapositive 1</dc:title>
</cp:coreProperties>
</file>