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2D4-050D-467F-80B6-83665D7F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7EF-8CAC-4C6A-86F9-9583FFE2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588-C7AA-42BD-9FC1-F2B4E711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FBC-7FFB-46A8-8A1B-8BDA95F7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EFE-92C2-42B1-999D-A675FF03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AD4-9059-474E-AC85-A9BD0258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C32-2FEF-4B6B-A95D-355DA838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9FA-516A-4B63-8235-0457C164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CFE-E44C-4CEF-BEF8-5248DAB9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061-5FF1-4C43-8D40-1A21E9F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959-3F60-4823-8F55-8E36007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A29-91AC-4CB1-BE98-D63B9BB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7CC3-1430-49EB-A2A3-44BB0B5122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une publication au has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exandre COURTOIS</cp:lastModifiedBy>
  <dcterms:modified xsi:type="dcterms:W3CDTF">2011-09-27T15:27:20Z</dcterms:modified>
  <cp:revision>8</cp:revision>
  <dc:subject/>
  <dc:title>Diapositive 1</dc:title>
</cp:coreProperties>
</file>