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30C-5211-44B4-BB0E-D4813C8F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3CA-3A2E-4EFC-9277-A5636FD5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DA2-4BC3-4D55-8E18-02BF8118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86C-AFFC-423D-BB45-90914BD4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070-E5E0-4382-B392-8D763B31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782-4C3B-435A-A797-D42721E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C9B-8A1B-44AD-83E4-0DE96800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726-014F-409A-94F3-13C03FE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1F5-51E7-4B6E-AA9A-F232EACD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674-3E1E-486B-985C-149CF7DB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0DD-F69D-4C92-9965-26398CF7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5CD-06DE-4BD2-B8C7-E86F4953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5D64-978C-470C-AEB7-47BBE557EE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-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R:\OREE\Maintenance\bugs\OREE2\PDC\Sans titre 10.jpg"/>
          <p:cNvPicPr/>
          <p:nvPr/>
        </p:nvPicPr>
        <p:blipFill>
          <a:blip r:embed="rId1"/>
          <a:stretch/>
        </p:blipFill>
        <p:spPr>
          <a:xfrm>
            <a:off x="1116000" y="584280"/>
            <a:ext cx="7324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jout d’u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R:\OREE\Maintenance\bugs\OREE2\PDC\Sans titre 9.jpg"/>
          <p:cNvPicPr/>
          <p:nvPr/>
        </p:nvPicPr>
        <p:blipFill>
          <a:blip r:embed="rId1"/>
          <a:stretch/>
        </p:blipFill>
        <p:spPr>
          <a:xfrm>
            <a:off x="1025640" y="674640"/>
            <a:ext cx="7092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ètres du PDC de la 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:\OREE\Maintenance\bugs\OREE2\PDC\Sans titre 11.jpg"/>
          <p:cNvPicPr/>
          <p:nvPr/>
        </p:nvPicPr>
        <p:blipFill>
          <a:blip r:embed="rId1"/>
          <a:stretch/>
        </p:blipFill>
        <p:spPr>
          <a:xfrm>
            <a:off x="1790640" y="1212840"/>
            <a:ext cx="5562720" cy="44323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valeur « CCI de LYON » avait été paramétrée comme valeur de base et non « MOE » qui est l’axe p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24360" y="2708280"/>
            <a:ext cx="647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en angle 3"/>
          <p:cNvCxnSpPr>
            <a:stCxn id="84" idx="1"/>
            <a:endCxn id="85" idx="1"/>
          </p:cNvCxnSpPr>
          <p:nvPr/>
        </p:nvCxnSpPr>
        <p:spPr>
          <a:xfrm flipH="1" rot="10800000">
            <a:off x="1114920" y="2780640"/>
            <a:ext cx="2809080" cy="3204360"/>
          </a:xfrm>
          <a:prstGeom prst="bentConnector3">
            <a:avLst>
              <a:gd name="adj1" fmla="val -812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28T13:29:08Z</dcterms:modified>
  <cp:revision>8</cp:revision>
  <dc:subject/>
  <dc:title>Diapositive 1</dc:title>
</cp:coreProperties>
</file>