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F01-6AEA-4DE6-9C22-B56527AC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D16-9374-4289-B123-20E22699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625-BF91-4D17-8002-830E1417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97E-6EA5-4E0C-8DAA-A3D7C1B8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936-DBD0-4FAE-ABDE-06BCCB62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DB8-52E0-4720-AB0F-0DDF2F36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460-2CEE-4D34-8D4A-7A7CC2EC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732-B1C4-44A6-B542-AA8D4C03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1FB-08E4-4D5F-BF4F-9D0CEA7B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655-899D-420F-B05E-4651301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6C7-4D5F-49DE-B3C8-B5651AF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2D2-4C6E-43A8-B42E-2A038D4C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35DE-918D-4724-B44F-D6CB64484B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une publication au has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exandre COURTOIS</cp:lastModifiedBy>
  <dcterms:modified xsi:type="dcterms:W3CDTF">2011-09-27T15:27:20Z</dcterms:modified>
  <cp:revision>8</cp:revision>
  <dc:subject/>
  <dc:title>Diapositive 1</dc:title>
</cp:coreProperties>
</file>