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D43-228B-4533-B48D-99B190D4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A8A-B895-43D9-A267-FDEA5AEA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EE5-28B6-4C4F-8EA5-621D6E35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CD5-D3FC-400A-83B0-DC2CD6BE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C47-4121-4166-AD6A-095B9CD5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390-2F72-40F2-B275-81769DD5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4F8-05B4-4E24-97FC-E2AE6E9C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C98-E8D2-458C-B52C-1BE827D3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BBA-6BE4-4BCE-A150-C43F070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8A6-79CA-4C2A-A65C-15789A8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6E2-0AE5-4961-B79B-8E9C1B2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455-22A9-4ABD-9CB4-E0508F2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2D3E-3831-4025-B372-238F6064C5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une publication au has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exandre COURTOIS</cp:lastModifiedBy>
  <dcterms:modified xsi:type="dcterms:W3CDTF">2011-09-27T15:27:20Z</dcterms:modified>
  <cp:revision>8</cp:revision>
  <dc:subject/>
  <dc:title>Diapositive 1</dc:title>
</cp:coreProperties>
</file>