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707-3F0D-4CAC-A75C-501D0029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B02-261C-4FAB-8436-965FFB46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014-AE99-493D-A49B-3CC859B8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CDD-221E-40D9-8A79-F4854515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8A6-7582-49B9-81EA-49C304B8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F49-619D-4A75-A144-774055E2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C76-2488-4CEB-BF91-7099118A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99E0-C954-4EA7-8D78-962A6984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61A-0023-4324-A572-8BA0520B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DB8-9554-4BA3-A6BB-E8024A91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017-9CFB-4430-9E60-31180D7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148-7B96-4DD9-A9A6-824CB389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126B-3608-4931-AC0A-F01C294BB40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une publication au has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exandre COURTOIS</cp:lastModifiedBy>
  <dcterms:modified xsi:type="dcterms:W3CDTF">2011-09-27T15:27:20Z</dcterms:modified>
  <cp:revision>8</cp:revision>
  <dc:subject/>
  <dc:title>Diapositive 1</dc:title>
</cp:coreProperties>
</file>