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E3E-9972-4FEA-AA37-516BEE21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4F0-B4C0-4697-91B9-A1B161FA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541-0E60-4C7D-B326-6C93A0AE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C73-82C0-4051-9F70-07A45E25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702-E52B-4768-83B9-E5E967CA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68C-01B7-4403-A5D6-D2E02C54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703-F76B-4215-92D0-48D226DD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7FA1-1454-4FC9-8B1B-138C7E8D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E4F-7EA5-4EC2-A259-AC5F43DF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F409-5359-4E7F-99A4-45B4F16B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FC5-5918-46A0-9B4B-CC5658E4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BFC7-469B-4B55-9F6C-A57FA36A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8C2D-389B-4B3F-8585-0BF4A0A3FB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-t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R:\OREE\Maintenance\bugs\OREE2\PDC\Sans titre 10.jpg"/>
          <p:cNvPicPr/>
          <p:nvPr/>
        </p:nvPicPr>
        <p:blipFill>
          <a:blip r:embed="rId1"/>
          <a:stretch/>
        </p:blipFill>
        <p:spPr>
          <a:xfrm>
            <a:off x="1116000" y="584280"/>
            <a:ext cx="7324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jout d’un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R:\OREE\Maintenance\bugs\OREE2\PDC\Sans titre 9.jpg"/>
          <p:cNvPicPr/>
          <p:nvPr/>
        </p:nvPicPr>
        <p:blipFill>
          <a:blip r:embed="rId1"/>
          <a:stretch/>
        </p:blipFill>
        <p:spPr>
          <a:xfrm>
            <a:off x="1025640" y="674640"/>
            <a:ext cx="7092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amètres du PDC de la 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:\OREE\Maintenance\bugs\OREE2\PDC\Sans titre 11.jpg"/>
          <p:cNvPicPr/>
          <p:nvPr/>
        </p:nvPicPr>
        <p:blipFill>
          <a:blip r:embed="rId1"/>
          <a:stretch/>
        </p:blipFill>
        <p:spPr>
          <a:xfrm>
            <a:off x="1790640" y="1212840"/>
            <a:ext cx="5562720" cy="443232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valeur « CCI de LYON » avait été paramétrée comme valeur de base et non « MOE » qui est l’axe p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24360" y="2708280"/>
            <a:ext cx="64764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en angle 3"/>
          <p:cNvCxnSpPr>
            <a:stCxn id="84" idx="1"/>
            <a:endCxn id="85" idx="1"/>
          </p:cNvCxnSpPr>
          <p:nvPr/>
        </p:nvCxnSpPr>
        <p:spPr>
          <a:xfrm flipH="1" rot="10800000">
            <a:off x="1114920" y="2780640"/>
            <a:ext cx="2809080" cy="3204360"/>
          </a:xfrm>
          <a:prstGeom prst="bentConnector3">
            <a:avLst>
              <a:gd name="adj1" fmla="val -812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28T13:29:08Z</dcterms:modified>
  <cp:revision>8</cp:revision>
  <dc:subject/>
  <dc:title>Diapositive 1</dc:title>
</cp:coreProperties>
</file>