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038-630A-41CC-B8BB-5EC9DBA0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AA7-86C6-4744-BA21-326543A2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119-DC84-4CF8-A5F8-694AED98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715-9C1A-4E1A-B1D5-1CDB4CC5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15C-61FC-4E2F-9B66-B9197231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991-B12B-45A9-B238-7358EE41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055-83EF-4CA3-BF65-318CCAF4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750-6FCA-40EA-9F04-AB9FEF71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3075-9C41-4DBA-9B4A-8BED7BFF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3E0-D98B-4583-BF9D-1AF374CE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ACB-7213-42CF-9810-E4E6E448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FE7-A297-44FC-936A-999F7C62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DBA6-AB14-4E34-BEAC-DBACE78BB36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une publication au has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exandre COURTOIS</cp:lastModifiedBy>
  <dcterms:modified xsi:type="dcterms:W3CDTF">2011-09-27T15:27:20Z</dcterms:modified>
  <cp:revision>8</cp:revision>
  <dc:subject/>
  <dc:title>Diapositive 1</dc:title>
</cp:coreProperties>
</file>