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B97C-10A8-4F18-9145-38B570F4E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8990-5054-4CF6-BE9F-BD418AB4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4F54-97AF-48C0-A219-2F1D9B1B7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717E-35BD-4E03-A747-2DB99F497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FA84-BA05-4D12-9730-A5E29F3A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AB90-41DD-4ECE-AD98-5895754B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55ED-1A5A-41C2-9905-99CC0443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1B9F-0550-4114-88E1-BC7C8984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297B-F3A9-4E41-BC9E-3B11672C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DF36-2574-4B23-8605-FC3A3305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A8D1-C5FB-4A90-A58E-B9E2C533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9492-D213-4CA5-9D0D-0E92A710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167D-7A2F-47B6-A9E0-8C45D0668C0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R:\OREE\Maintenance\bugs\OREE2\PDC\Sans titre 2.jpg"/>
          <p:cNvPicPr/>
          <p:nvPr/>
        </p:nvPicPr>
        <p:blipFill>
          <a:blip r:embed="rId1"/>
          <a:stretch/>
        </p:blipFill>
        <p:spPr>
          <a:xfrm>
            <a:off x="757080" y="876240"/>
            <a:ext cx="7629840" cy="51055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8"/>
          <p:cNvSpPr/>
          <p:nvPr/>
        </p:nvSpPr>
        <p:spPr>
          <a:xfrm>
            <a:off x="3241800" y="5241960"/>
            <a:ext cx="647640" cy="142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Connecteur en angle 9"/>
          <p:cNvCxnSpPr>
            <a:stCxn id="44" idx="1"/>
            <a:endCxn id="42" idx="1"/>
          </p:cNvCxnSpPr>
          <p:nvPr/>
        </p:nvCxnSpPr>
        <p:spPr>
          <a:xfrm flipH="1" flipV="1" rot="10800000">
            <a:off x="1297080" y="3113640"/>
            <a:ext cx="1945080" cy="2199960"/>
          </a:xfrm>
          <a:prstGeom prst="bentConnector3">
            <a:avLst>
              <a:gd name="adj1" fmla="val -12162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4" name="ZoneTexte 17"/>
          <p:cNvSpPr/>
          <p:nvPr/>
        </p:nvSpPr>
        <p:spPr>
          <a:xfrm>
            <a:off x="1297080" y="2792520"/>
            <a:ext cx="496872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echerche parmi les 112 contributions référencées à la racine de l’axe « MOE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6265800" y="1641600"/>
            <a:ext cx="647640" cy="215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Connecteur en angle 25"/>
          <p:cNvCxnSpPr>
            <a:stCxn id="44" idx="3"/>
            <a:endCxn id="45" idx="2"/>
          </p:cNvCxnSpPr>
          <p:nvPr/>
        </p:nvCxnSpPr>
        <p:spPr>
          <a:xfrm flipV="1">
            <a:off x="6265800" y="1857240"/>
            <a:ext cx="324000" cy="125676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R:\OREE\Maintenance\bugs\OREE2\PDC\Sans titre 3.jpg"/>
          <p:cNvPicPr/>
          <p:nvPr/>
        </p:nvPicPr>
        <p:blipFill>
          <a:blip r:embed="rId1"/>
          <a:stretch/>
        </p:blipFill>
        <p:spPr>
          <a:xfrm>
            <a:off x="1287360" y="826920"/>
            <a:ext cx="6569280" cy="52041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3564000" y="2421000"/>
            <a:ext cx="1368360" cy="144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Connecteur en angle 12"/>
          <p:cNvCxnSpPr>
            <a:stCxn id="51" idx="3"/>
            <a:endCxn id="49" idx="3"/>
          </p:cNvCxnSpPr>
          <p:nvPr/>
        </p:nvCxnSpPr>
        <p:spPr>
          <a:xfrm flipH="1">
            <a:off x="4931640" y="1447560"/>
            <a:ext cx="3096360" cy="1045080"/>
          </a:xfrm>
          <a:prstGeom prst="bentConnector3">
            <a:avLst>
              <a:gd name="adj1" fmla="val -7383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1" name="ZoneTexte 17"/>
          <p:cNvSpPr/>
          <p:nvPr/>
        </p:nvSpPr>
        <p:spPr>
          <a:xfrm>
            <a:off x="755640" y="1125360"/>
            <a:ext cx="727236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13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contributions sont listées dans les résultats (sur 112 référencées sur l’axe « MOE »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2268360" y="2603520"/>
            <a:ext cx="3383280" cy="32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Connecteur en angle 21"/>
          <p:cNvCxnSpPr>
            <a:stCxn id="54" idx="1"/>
            <a:endCxn id="52" idx="1"/>
          </p:cNvCxnSpPr>
          <p:nvPr/>
        </p:nvCxnSpPr>
        <p:spPr>
          <a:xfrm flipH="1" rot="10800000">
            <a:off x="539280" y="2763720"/>
            <a:ext cx="1729440" cy="2191320"/>
          </a:xfrm>
          <a:prstGeom prst="bentConnector3">
            <a:avLst>
              <a:gd name="adj1" fmla="val -1322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4" name="ZoneTexte 17"/>
          <p:cNvSpPr/>
          <p:nvPr/>
        </p:nvSpPr>
        <p:spPr>
          <a:xfrm>
            <a:off x="539640" y="4770360"/>
            <a:ext cx="47530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 sélectionne la première pub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R:\OREE\Maintenance\bugs\OREE2\PDC\Sans titre 4.jpg"/>
          <p:cNvPicPr/>
          <p:nvPr/>
        </p:nvPicPr>
        <p:blipFill>
          <a:blip r:embed="rId1"/>
          <a:stretch/>
        </p:blipFill>
        <p:spPr>
          <a:xfrm>
            <a:off x="485640" y="214200"/>
            <a:ext cx="8172720" cy="6429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5651640" y="4365720"/>
            <a:ext cx="2881080" cy="86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Connecteur en angle 3"/>
          <p:cNvCxnSpPr>
            <a:stCxn id="59" idx="0"/>
            <a:endCxn id="57" idx="1"/>
          </p:cNvCxnSpPr>
          <p:nvPr/>
        </p:nvCxnSpPr>
        <p:spPr>
          <a:xfrm flipH="1" flipV="1" rot="5400000">
            <a:off x="4337640" y="4562640"/>
            <a:ext cx="1080360" cy="154872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9" name="ZoneTexte 17"/>
          <p:cNvSpPr/>
          <p:nvPr/>
        </p:nvSpPr>
        <p:spPr>
          <a:xfrm>
            <a:off x="1187280" y="5877000"/>
            <a:ext cx="583272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publication n’est référencée sur aucune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R:\OREE\Maintenance\bugs\OREE2\PDC\Sans titre 5.jpg"/>
          <p:cNvPicPr/>
          <p:nvPr/>
        </p:nvPicPr>
        <p:blipFill>
          <a:blip r:embed="rId1"/>
          <a:stretch/>
        </p:blipFill>
        <p:spPr>
          <a:xfrm>
            <a:off x="728640" y="376200"/>
            <a:ext cx="7686720" cy="6105600"/>
          </a:xfrm>
          <a:prstGeom prst="rect">
            <a:avLst/>
          </a:prstGeom>
          <a:ln w="0">
            <a:noFill/>
          </a:ln>
        </p:spPr>
      </p:pic>
      <p:sp>
        <p:nvSpPr>
          <p:cNvPr id="62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203640" y="5157720"/>
            <a:ext cx="1655640" cy="142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Connecteur en angle 4"/>
          <p:cNvCxnSpPr>
            <a:stCxn id="65" idx="1"/>
            <a:endCxn id="63" idx="1"/>
          </p:cNvCxnSpPr>
          <p:nvPr/>
        </p:nvCxnSpPr>
        <p:spPr>
          <a:xfrm flipH="1" flipV="1" rot="10800000">
            <a:off x="826560" y="3115800"/>
            <a:ext cx="2377440" cy="2113920"/>
          </a:xfrm>
          <a:prstGeom prst="bentConnector3">
            <a:avLst>
              <a:gd name="adj1" fmla="val -9616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5" name="ZoneTexte 17"/>
          <p:cNvSpPr/>
          <p:nvPr/>
        </p:nvSpPr>
        <p:spPr>
          <a:xfrm>
            <a:off x="826920" y="2792520"/>
            <a:ext cx="633744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echerche parmi les 26 contributions référencées sur la valeur « Baromètre projet » de l’axe « Type de document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6372360" y="1197000"/>
            <a:ext cx="647640" cy="216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onnecteur en angle 25"/>
          <p:cNvCxnSpPr>
            <a:stCxn id="65" idx="3"/>
            <a:endCxn id="66" idx="3"/>
          </p:cNvCxnSpPr>
          <p:nvPr/>
        </p:nvCxnSpPr>
        <p:spPr>
          <a:xfrm flipH="1" flipV="1">
            <a:off x="7019640" y="1304280"/>
            <a:ext cx="144720" cy="1811880"/>
          </a:xfrm>
          <a:prstGeom prst="bentConnector3">
            <a:avLst>
              <a:gd name="adj1" fmla="val -159102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R:\OREE\Maintenance\bugs\OREE2\PDC\Sans titre 7.jpg"/>
          <p:cNvPicPr/>
          <p:nvPr/>
        </p:nvPicPr>
        <p:blipFill>
          <a:blip r:embed="rId1"/>
          <a:stretch/>
        </p:blipFill>
        <p:spPr>
          <a:xfrm>
            <a:off x="809640" y="447840"/>
            <a:ext cx="7524720" cy="59623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3"/>
          <p:cNvSpPr/>
          <p:nvPr/>
        </p:nvSpPr>
        <p:spPr>
          <a:xfrm>
            <a:off x="1908000" y="2492280"/>
            <a:ext cx="3888000" cy="393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Connecteur en angle 14"/>
          <p:cNvCxnSpPr>
            <a:stCxn id="71" idx="1"/>
            <a:endCxn id="69" idx="1"/>
          </p:cNvCxnSpPr>
          <p:nvPr/>
        </p:nvCxnSpPr>
        <p:spPr>
          <a:xfrm flipH="1" rot="10800000">
            <a:off x="538560" y="2688480"/>
            <a:ext cx="1369080" cy="2542320"/>
          </a:xfrm>
          <a:prstGeom prst="bentConnector3">
            <a:avLst>
              <a:gd name="adj1" fmla="val -16701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1" name="ZoneTexte 17"/>
          <p:cNvSpPr/>
          <p:nvPr/>
        </p:nvSpPr>
        <p:spPr>
          <a:xfrm>
            <a:off x="539640" y="4770360"/>
            <a:ext cx="640872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 sélectionne la première publication (identique au scénario 1 partant du principe que cette publication est référencée au moins sur ces 2 a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R:\OREE\Maintenance\bugs\OREE2\PDC\Sans titre 8.jpg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2481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5580000" y="4149720"/>
            <a:ext cx="2879640" cy="86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Connecteur en angle 3"/>
          <p:cNvCxnSpPr>
            <a:stCxn id="76" idx="0"/>
            <a:endCxn id="74" idx="1"/>
          </p:cNvCxnSpPr>
          <p:nvPr/>
        </p:nvCxnSpPr>
        <p:spPr>
          <a:xfrm flipH="1" flipV="1" rot="5400000">
            <a:off x="4590000" y="4670640"/>
            <a:ext cx="1080360" cy="90072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6" name="ZoneTexte 17"/>
          <p:cNvSpPr/>
          <p:nvPr/>
        </p:nvSpPr>
        <p:spPr>
          <a:xfrm>
            <a:off x="1116000" y="5661000"/>
            <a:ext cx="71280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publication n’est référencée sur aucune position =&gt; résultat identique au scénari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n-tê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R:\OREE\Maintenance\bugs\OREE2\PDC\Sans titre 10.jpg"/>
          <p:cNvPicPr/>
          <p:nvPr/>
        </p:nvPicPr>
        <p:blipFill>
          <a:blip r:embed="rId1"/>
          <a:stretch/>
        </p:blipFill>
        <p:spPr>
          <a:xfrm>
            <a:off x="1116000" y="584280"/>
            <a:ext cx="73245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jout d’une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R:\OREE\Maintenance\bugs\OREE2\PDC\Sans titre 9.jpg"/>
          <p:cNvPicPr/>
          <p:nvPr/>
        </p:nvPicPr>
        <p:blipFill>
          <a:blip r:embed="rId1"/>
          <a:stretch/>
        </p:blipFill>
        <p:spPr>
          <a:xfrm>
            <a:off x="1025640" y="674640"/>
            <a:ext cx="709272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aramètres du PDC de la 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R:\OREE\Maintenance\bugs\OREE2\PDC\Sans titre 11.jpg"/>
          <p:cNvPicPr/>
          <p:nvPr/>
        </p:nvPicPr>
        <p:blipFill>
          <a:blip r:embed="rId1"/>
          <a:stretch/>
        </p:blipFill>
        <p:spPr>
          <a:xfrm>
            <a:off x="1790640" y="1212840"/>
            <a:ext cx="5562720" cy="4432320"/>
          </a:xfrm>
          <a:prstGeom prst="rect">
            <a:avLst/>
          </a:prstGeom>
          <a:ln w="0">
            <a:noFill/>
          </a:ln>
        </p:spPr>
      </p:pic>
      <p:sp>
        <p:nvSpPr>
          <p:cNvPr id="84" name="ZoneTexte 17"/>
          <p:cNvSpPr/>
          <p:nvPr/>
        </p:nvSpPr>
        <p:spPr>
          <a:xfrm>
            <a:off x="1116000" y="5661000"/>
            <a:ext cx="71280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valeur « CCI de LYON » avait été paramétrée comme valeur de base et non « MOE » qui est l’axe pè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3924360" y="2708280"/>
            <a:ext cx="647640" cy="144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Connecteur en angle 3"/>
          <p:cNvCxnSpPr>
            <a:stCxn id="84" idx="1"/>
            <a:endCxn id="85" idx="1"/>
          </p:cNvCxnSpPr>
          <p:nvPr/>
        </p:nvCxnSpPr>
        <p:spPr>
          <a:xfrm flipH="1" rot="10800000">
            <a:off x="1114920" y="2780640"/>
            <a:ext cx="2809080" cy="3204360"/>
          </a:xfrm>
          <a:prstGeom prst="bentConnector3">
            <a:avLst>
              <a:gd name="adj1" fmla="val -8126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5:02:21Z</dcterms:created>
  <dc:creator>Alban KARNAVOS</dc:creator>
  <dc:description/>
  <dc:language>en-US</dc:language>
  <cp:lastModifiedBy>Alban KARNAVOS</cp:lastModifiedBy>
  <dcterms:modified xsi:type="dcterms:W3CDTF">2011-09-28T13:29:08Z</dcterms:modified>
  <cp:revision>8</cp:revision>
  <dc:subject/>
  <dc:title>Diapositive 1</dc:title>
</cp:coreProperties>
</file>